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3F90-335A-4057-9EB6-2CFBEA1E8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CB14-806E-4285-A800-023CC7EE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FED9-9321-44D6-9FFF-67CDE4BB2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9977-9211-44D1-A752-C198EC53B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E7A6-B443-4DAE-A894-D4DD5D9D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FA88-5091-4A29-BF4F-FC7A6746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724E-BD89-43B9-BDA9-89AEEBA0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3611-C358-44D5-96F8-0B6DA06A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0E30-1946-42B9-8116-F0EF9951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E616-B04C-4222-9720-40D5B562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1B3E-031B-4FFC-BD58-5FB6B473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6620-F56F-4C8B-A3A5-292301F9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A897-EF10-4049-BACA-9D482311D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wanda.williams\My Documents\My Pictures\Microsoft Clip Organizer\j032374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7644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2"/>
          <p:cNvSpPr/>
          <p:nvPr/>
        </p:nvSpPr>
        <p:spPr>
          <a:xfrm rot="16200000">
            <a:off x="4234680" y="2619720"/>
            <a:ext cx="4729320" cy="367668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ngravers MT"/>
              </a:rPr>
              <a:t>Ebenezer scroo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ngravers MT"/>
              </a:rPr>
              <a:t>An animal that growled and grunted sometimes and talked sometimes and lived in London and walked about the streets and wasn’t made a show of and wasn’t led by anybody and didn’t live in a menagerie and was never killed in a market and was not a horse or an ass or a cow or a bull or a tiger or a dog or a pig or a cat or a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C:\Documents and Settings\wanda.williams\Local Settings\Temporary Internet Files\Content.IE5\LX2YN4OC\MCBD07752_0000[1]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 rot="16200000">
            <a:off x="5067000" y="2705040"/>
            <a:ext cx="4191120" cy="335268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lies a humble Scroo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ry Christmas”  R.I.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25:11Z</dcterms:created>
  <dc:creator>wanda.williams</dc:creator>
  <dc:description/>
  <dc:language>en-US</dc:language>
  <cp:lastModifiedBy>Andrew</cp:lastModifiedBy>
  <dcterms:modified xsi:type="dcterms:W3CDTF">2011-12-05T23:57:03Z</dcterms:modified>
  <cp:revision>9</cp:revision>
  <dc:subject/>
  <dc:title>Slide 1</dc:title>
</cp:coreProperties>
</file>